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9C6-4CFC-4A82-AB2C-74563022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AFC-D63E-4873-BB50-2EB0BA6B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6FBD-A0D1-48A3-B700-3ED1A81C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F7A-3066-4C58-83C9-C638CDFE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FF1A-2F59-4EE1-B554-9D1B57E6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17F-9DA6-47F6-B96E-CF6EB051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E96-FDBD-49EB-AEEA-2134B2BA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9A03-1F72-4F7F-A88F-48CE13DD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4D18-F011-47AC-97DA-975B83E5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9CA-8B96-4877-99E0-A90F29C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5B90-4D55-4645-98E5-63C220BD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0F8-0C20-4B87-9227-5338A164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C65-058D-43FF-8075-E6DAD5A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8501-510E-4320-8FB8-5B24656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98FC-A5F9-4AAD-870D-D566251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0858-B5FA-4C73-8FA2-3A414EFD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EE5D-C4F7-4441-B7A1-429E1BFE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793-6F72-4E46-A843-A900932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4A3-7099-40E9-8649-C36805CC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D53-4FF5-4D31-9802-A88BD7B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248-1547-405A-AC2B-17F519E5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2F4-38DF-4CDA-BF2E-B19D0BD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BF75-E18B-43BF-A3E6-135FDCB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08F-886E-44E3-80D6-AF54FBA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D0CC-5523-4946-92EF-9D87619AC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8341-89C3-4CFC-80ED-2230948145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est revis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est date: 2/11/09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71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Classification of skil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predi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not control variables i.e speed /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volley in foot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dic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ariable stay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ction i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serve 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sic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ttl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forwar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ny subroutines /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ordination is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 backhand overhead drop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am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Choose an activity. Describe the features of a model performance in a skill of your choice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6804000" y="189000"/>
            <a:ext cx="2133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dentify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mprove your skill level using a P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i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hy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rmanent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be com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liabl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roll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3141720"/>
          <a:ext cx="8458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41720"/>
                    <a:ext cx="8458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st link to the stage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Shadow prac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preparation s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i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petition drills (prep / 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or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inuous rally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th players play same shot repeated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bination ral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ditioned gam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on a certain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ssure drill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skill whilst under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improve you must consider the following when pract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ear goal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know what you want to improve, be SM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ork / rest rati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igh quality practise over a short time i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Challenging practices that get gradually mor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otivation / concentr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have the desire to succeed and be fully focused during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must be POSITIVE, accurate and given quickly. Can be intrinsic or extrin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26:10Z</dcterms:created>
  <dc:creator>FlemingC1</dc:creator>
  <dc:description/>
  <dc:language>en-US</dc:language>
  <cp:lastModifiedBy>Flemingc1</cp:lastModifiedBy>
  <dcterms:modified xsi:type="dcterms:W3CDTF">2009-10-26T12:08:04Z</dcterms:modified>
  <cp:revision>6</cp:revision>
  <dc:subject/>
  <dc:title>Skills and Techniques </dc:title>
</cp:coreProperties>
</file>